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12E-05B5-4981-AD5C-44316D35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449-1EC6-4D86-8FA9-FCC0855C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629D-245A-4DAE-81A1-4173523A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3B8-696F-4DB4-994A-DB78329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67D3-FE2F-4F9B-BB10-E9A3CD82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2BA7-6397-4DBB-A9BC-9256A06A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0C77-BC83-4602-A8B9-F9BF061F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92C2-202F-4E3E-917A-B1CDA14B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D48D-B329-4BF6-B998-E212F736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646F-9E1C-4EB4-98A3-20D65614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BF09-8BFF-4460-A841-BF396B3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C04-9626-49F0-AC7F-461B72DF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E223-AD0C-4C7D-9EFE-761AFF8C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9004-0913-4CCD-83EF-EB428C7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579-9B21-42E7-863B-F8BF25B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3724-BE5F-460A-A452-CFF56108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D0EB-BEE8-40DA-93E7-315A9E6F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352-0568-43E1-AC22-BAE65B0A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6D4-FC34-4559-8ABA-F39B47B0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344-C776-4B8D-83DF-A67B6F09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A3E-80F4-4F3B-B673-B9EE53B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90E-293A-4244-AD77-2AD7176B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A6E-615F-42D0-A23D-A26E60D7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451-1F6C-4FB5-A48E-63356CA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51E-4667-4FEF-93DD-B77A01C06F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5A2B-1914-4D2C-A190-BD28DB6E8E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arison Between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b-threshold and Adiabatic Power Saving Techniq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Jonathan Bolus an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uart Woote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iabatic Adder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1080" y="2499840"/>
            <a:ext cx="663732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300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6 u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iabatic is not as affective at small values of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ower than 2V).  This is evident in the 90nm technology w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-threshold saved 26x the power compared to V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D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 0.5V, 400MHz, V/sub 00/-hopping processor with zero-V/sub TH/ FD-SOI technolog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AR" sz="1400" spc="-1" strike="noStrike">
                <a:solidFill>
                  <a:srgbClr val="003366"/>
                </a:solidFill>
                <a:latin typeface="Arial"/>
              </a:rPr>
              <a:t>Kawaguchi, H.; Kanda, K.; Nose, K.; Hattori, S.; Dwi, D.; Antono, D.; Yamada, D.; Miyazaki, T.; Inagaki, K.; Hiramoto, T.; Sakurai, T.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lid-State Circuits Conference, 2003. Digest of Technical Papers. ISSCC. 2003 IEEE Internatio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003 Page(s):106 - 481 vol.1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igital Object Identifier 10.1109/ISSCC.2003.1234227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 Efficient Charge Recovery Logic Circui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Yong Moon, and Deog-Kyoon Jeong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E Journal of Solid-State Circuits, Vol, 31, No.4, April 199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ry Look Ahead Ad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92280" y="2362320"/>
            <a:ext cx="4384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mparison of different V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Arial"/>
              </a:rPr>
              <a:t>D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431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wer Consumption Comparison with VDD=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7120" y="2362320"/>
            <a:ext cx="5773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-threshold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Consumption: 7.18 fJ/ad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 = 20 MH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 Consumption: 143.6 n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of Devices: 12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440" y="791640"/>
            <a:ext cx="7483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4305600" cy="40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1680" y="1066680"/>
            <a:ext cx="42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fficient Charge Recovery 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2860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ssentially Differential Cascode Voltage Switch Logic (DCVSL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DD replaced by power clock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4648320"/>
            <a:ext cx="2819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440" y="944280"/>
            <a:ext cx="748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ck Tim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166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RL Inver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 Consum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9250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2:19:14Z</dcterms:created>
  <dc:creator>Stuart Wooters</dc:creator>
  <dc:description/>
  <dc:language>en-US</dc:language>
  <cp:lastModifiedBy>Stuart Wooters</cp:lastModifiedBy>
  <dcterms:modified xsi:type="dcterms:W3CDTF">2006-11-30T18:11:09Z</dcterms:modified>
  <cp:revision>5</cp:revision>
  <dc:subject/>
  <dc:title>Slide 1</dc:title>
</cp:coreProperties>
</file>